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C1A5-9BB2-4BFA-9A0B-F31DC4334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a Parks can be defined as a leader. Due to her refusal to move from a seat on December 1,1955, she begun the long Montgomery Bus Boycott because she stood up for what she believed in and encouraged others to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ons- the arrest of Rosa Parks can relate to </a:t>
            </a:r>
            <a:r>
              <a:rPr b="0" lang="en-US" sz="1200" spc="-1" strike="noStrike" u="sng">
                <a:solidFill>
                  <a:srgbClr val="000000"/>
                </a:solidFill>
                <a:uFillTx/>
                <a:latin typeface="Calibri"/>
              </a:rPr>
              <a:t>To Kill A Mockingbird</a:t>
            </a:r>
            <a:r>
              <a:rPr b="0" lang="en-US" sz="1200" spc="-1" strike="noStrike">
                <a:solidFill>
                  <a:srgbClr val="000000"/>
                </a:solidFill>
                <a:latin typeface="Calibri"/>
              </a:rPr>
              <a:t> because the jury had convicted Tom Robinson for the rape charges, just because he was black. This is similar because just because Rosa is black, she was being forced to give up her seat on the bu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ly tired I was, was tired of giving in. </a:t>
            </a:r>
            <a:r>
              <a:rPr b="0" i="1" lang="en-US" sz="1200" spc="-1" strike="noStrike">
                <a:solidFill>
                  <a:srgbClr val="000000"/>
                </a:solidFill>
                <a:latin typeface="Calibri"/>
              </a:rPr>
              <a:t>(on refusing to give up her seat on the bus to a white ma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06B3C-FE58-4689-9453-554069FE2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5497F-E776-4A29-8721-9196E00FA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DBF82-511F-4D38-BAC5-10D854EB4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AB686-593C-42CE-9875-13863878B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FCFA5-7096-4241-9299-41AB3EF6C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34A77-B7E4-4F1C-9A0D-EF934536D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7F4F9-A7D9-4C1C-B2F1-6A3E74972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FEF3-1602-4368-BD04-D7F92B406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89C1B-B724-4C8A-B736-008229AF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6431-6DD4-4006-889F-745E7B3D2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5BE6-19D2-40E8-B916-3FA53D7F8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D131-CBE8-43F8-9595-44C81159C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A8FB-B120-4ECE-9E67-8645F71D1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5" descr="rosa1"/>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2135"/>
                </a:solidFill>
                <a:latin typeface="Brush Script MT"/>
              </a:rPr>
              <a:t>Rosa Parks</a:t>
            </a:r>
            <a:endParaRPr b="0" lang="en-US" sz="72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Georgia"/>
              </a:rPr>
              <a:t>Hayley Balducci</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Georgia"/>
              </a:rPr>
              <a:t>Courtney Doty</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Georgia"/>
              </a:rPr>
              <a:t>Period 3</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5" descr="http://images.google.com/url?source=imgres&amp;ct=img&amp;q=http://history.missouristate.edu/lwburt/Images122/rosa_parks2.jpg&amp;usg=AFQjCNGRVpEi2LOAChsroxYIgzisak6aCQ"/>
          <p:cNvPicPr/>
          <p:nvPr/>
        </p:nvPicPr>
        <p:blipFill>
          <a:blip r:embed="rId1"/>
          <a:stretch/>
        </p:blipFill>
        <p:spPr>
          <a:xfrm>
            <a:off x="0" y="0"/>
            <a:ext cx="9144000" cy="6858000"/>
          </a:xfrm>
          <a:prstGeom prst="rect">
            <a:avLst/>
          </a:prstGeom>
          <a:ln w="9360">
            <a:solidFill>
              <a:srgbClr val="000000"/>
            </a:solidFill>
            <a:miter/>
          </a:ln>
        </p:spPr>
      </p:pic>
      <p:sp>
        <p:nvSpPr>
          <p:cNvPr id="52" name=""/>
          <p:cNvSpPr txBox="1"/>
          <p:nvPr/>
        </p:nvSpPr>
        <p:spPr>
          <a:xfrm>
            <a:off x="0" y="4152960"/>
            <a:ext cx="3119400" cy="27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Georgia"/>
              </a:rPr>
              <a:t>BUSTED!</a:t>
            </a:r>
            <a:endParaRPr b="0" lang="en-US" sz="1800" spc="1" strike="noStrike">
              <a:ln w="0">
                <a:noFill/>
              </a:ln>
              <a:solidFill>
                <a:srgbClr val="336699"/>
              </a:solidFill>
              <a:effectLst>
                <a:outerShdw dist="40186" dir="1096358" blurRad="0" rotWithShape="0">
                  <a:srgbClr val="b2b2b2">
                    <a:alpha val="80000"/>
                  </a:srgbClr>
                </a:outerShdw>
              </a:effectLst>
              <a:latin typeface="Georgia"/>
              <a:ea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029200" y="914400"/>
            <a:ext cx="3143160" cy="4005360"/>
          </a:xfrm>
          <a:prstGeom prst="rect">
            <a:avLst/>
          </a:prstGeom>
          <a:ln w="0">
            <a:noFill/>
          </a:ln>
        </p:spPr>
      </p:pic>
      <p:sp>
        <p:nvSpPr>
          <p:cNvPr id="54" name=""/>
          <p:cNvSpPr txBox="1"/>
          <p:nvPr/>
        </p:nvSpPr>
        <p:spPr>
          <a:xfrm>
            <a:off x="457200" y="685800"/>
            <a:ext cx="3733920" cy="1905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Georgia"/>
              </a:rPr>
              <a:t>CONNECTION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Georgia"/>
              <a:ea typeface="Georgia"/>
            </a:endParaRPr>
          </a:p>
        </p:txBody>
      </p:sp>
      <p:sp>
        <p:nvSpPr>
          <p:cNvPr id="55" name=""/>
          <p:cNvSpPr txBox="1"/>
          <p:nvPr/>
        </p:nvSpPr>
        <p:spPr>
          <a:xfrm rot="5400000">
            <a:off x="-700200" y="4433760"/>
            <a:ext cx="281016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Georgia"/>
              </a:rPr>
              <a:t>Rosa Park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Georgia"/>
              <a:ea typeface="Georgia"/>
            </a:endParaRPr>
          </a:p>
        </p:txBody>
      </p:sp>
      <p:sp>
        <p:nvSpPr>
          <p:cNvPr id="56" name=""/>
          <p:cNvSpPr txBox="1"/>
          <p:nvPr/>
        </p:nvSpPr>
        <p:spPr>
          <a:xfrm>
            <a:off x="4267080" y="4724280"/>
            <a:ext cx="4505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To Kill A Mockingbir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pic>
        <p:nvPicPr>
          <p:cNvPr id="57" name="" descr=""/>
          <p:cNvPicPr/>
          <p:nvPr/>
        </p:nvPicPr>
        <p:blipFill>
          <a:blip r:embed="rId2"/>
          <a:stretch/>
        </p:blipFill>
        <p:spPr>
          <a:xfrm>
            <a:off x="1219320" y="3200400"/>
            <a:ext cx="2685960" cy="29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755e75"/>
            </a:gs>
          </a:gsLst>
          <a:path path="rect">
            <a:fillToRect l="50000" t="50000" r="50000" b="50000"/>
          </a:path>
        </a:gradFill>
      </p:bgPr>
    </p:bg>
    <p:spTree>
      <p:nvGrpSpPr>
        <p:cNvPr id="1" name=""/>
        <p:cNvGrpSpPr/>
        <p:nvPr/>
      </p:nvGrpSpPr>
      <p:grpSpPr>
        <a:xfrm>
          <a:off x="0" y="0"/>
          <a:ext cx="0" cy="0"/>
          <a:chOff x="0" y="0"/>
          <a:chExt cx="0" cy="0"/>
        </a:xfrm>
      </p:grpSpPr>
      <p:sp>
        <p:nvSpPr>
          <p:cNvPr id="58" name=""/>
          <p:cNvSpPr txBox="1"/>
          <p:nvPr/>
        </p:nvSpPr>
        <p:spPr>
          <a:xfrm>
            <a:off x="5105520" y="457200"/>
            <a:ext cx="3538440" cy="1820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Georgia"/>
              </a:rPr>
              <a:t>Quotes</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Georgia"/>
              <a:ea typeface="Georgia"/>
            </a:endParaRPr>
          </a:p>
        </p:txBody>
      </p:sp>
      <p:sp>
        <p:nvSpPr>
          <p:cNvPr id="59" name=""/>
          <p:cNvSpPr/>
          <p:nvPr/>
        </p:nvSpPr>
        <p:spPr>
          <a:xfrm>
            <a:off x="2438280" y="3352680"/>
            <a:ext cx="59436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t many don’t know that while Park’s courageous decision that December 1st might have been spontaneous, an army of women stood behind her and played a key role in getting the historic Montgomery Bus Boycott off the grou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09480" y="53341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ly tired I was, was tired of giving in. </a:t>
            </a:r>
            <a:r>
              <a:rPr b="0" i="1" lang="en-US" sz="1800" spc="-1" strike="noStrike">
                <a:solidFill>
                  <a:srgbClr val="000000"/>
                </a:solidFill>
                <a:latin typeface="Arial"/>
              </a:rPr>
              <a:t>(on refusing to give up her seat on the bus to a white male) </a:t>
            </a:r>
            <a:r>
              <a:rPr b="0" lang="en-US" sz="1800" spc="-1" strike="noStrike">
                <a:solidFill>
                  <a:srgbClr val="000000"/>
                </a:solidFill>
                <a:latin typeface="Arial"/>
              </a:rPr>
              <a:t>~Rosa Parks </a:t>
            </a:r>
            <a:endParaRPr b="0" lang="en-US" sz="1800" spc="-1" strike="noStrike">
              <a:solidFill>
                <a:srgbClr val="000000"/>
              </a:solidFill>
              <a:latin typeface="Arial"/>
            </a:endParaRPr>
          </a:p>
        </p:txBody>
      </p:sp>
      <p:sp>
        <p:nvSpPr>
          <p:cNvPr id="61" name=""/>
          <p:cNvSpPr/>
          <p:nvPr/>
        </p:nvSpPr>
        <p:spPr>
          <a:xfrm>
            <a:off x="0" y="2209680"/>
            <a:ext cx="4648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uld like to be known as a person who is concerned about freedom and equality and justice and prosperity for all people.  ~R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t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Women Leaders of the Civil Rights Movement by Zita Allen.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n Decades by Richard Layman.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erican Dream of the 50’s by the editors of Time-Life Books: Alexandria and Virgini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3:57:10Z</dcterms:created>
  <dc:creator>MBOE</dc:creator>
  <dc:description/>
  <dc:language>en-US</dc:language>
  <cp:lastModifiedBy>Milford Public Schools</cp:lastModifiedBy>
  <dcterms:modified xsi:type="dcterms:W3CDTF">2009-03-27T14:00:25Z</dcterms:modified>
  <cp:revision>3</cp:revision>
  <dc:subject/>
  <dc:title>Rosa Parks</dc:title>
</cp:coreProperties>
</file>